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2FED4-6953-497F-BC04-656B137E1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558CF-9847-48B3-AEAB-736D0C3C9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515AE-923E-45FF-A354-745BD5B05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025D5-C726-4E6F-96D3-7EF6B5498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AA037-85B1-4422-8B88-23C8DCBBC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13179-F5BE-4C3B-8D2D-50BA58AF6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515AF-F811-4486-BCDD-77EDF9750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61186-685B-4814-9EB6-B598B47C8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B0F69-5B2D-4975-BA78-BC653C924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377C5-CC36-4B9A-B1B5-DCE1E7C93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3E84E-52A4-466F-ADE0-B53347780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2DF57-AFD4-4B39-97A7-647A9ACA4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E07E1-B23A-4AD2-B14B-73AA14681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91B76-BCDB-4039-8C0A-5E9D6FC80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EC8FA-80DE-47C7-8ACE-DEB5FF434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D1EEE-1675-4F1F-A84D-A008FCE6C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C7673-2D7C-49DE-9E1D-C1CE0D6AD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0EE88-7E13-4D4F-B477-A2DD2F3A4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AE00B-F1EB-4370-ACCB-64F385D23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BA407-5319-4FA9-8AE7-098ADB698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4F358-F1DB-4E8E-873A-CB86D131E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46C6E-9A33-4685-9023-BCBF1694F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CB090-97BD-479E-B84A-9E0294A6C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37155-0498-439E-9299-88139F6A0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F7712-A2F3-4A35-8E58-8E7F884EDD69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6FE0A-8F95-4317-9127-83D4F28C4342}" type="slidenum">
              <a:rPr b="0" lang="en-US" sz="1400" spc="-1" strike="noStrike">
                <a:solidFill>
                  <a:srgbClr val="1c1c1c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43000" y="990720"/>
            <a:ext cx="7391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굴림"/>
              </a:rPr>
              <a:t>지식에 대한 짧은 고찰</a:t>
            </a:r>
            <a:endParaRPr b="0" lang="en-US" sz="4400" spc="-1" strike="noStrike">
              <a:solidFill>
                <a:srgbClr val="333399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19320" y="2017800"/>
            <a:ext cx="7735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들어가며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제 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원리의 자기순환적 성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제 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원리 및 보편개념의 위상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관찰과 인식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관찰과 발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지식과 현실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나가며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굴림"/>
              </a:rPr>
              <a:t>관찰과 발견 </a:t>
            </a:r>
            <a:r>
              <a:rPr b="1" lang="en-US" sz="2000" spc="-1" strike="noStrike">
                <a:solidFill>
                  <a:srgbClr val="333399"/>
                </a:solidFill>
                <a:latin typeface="굴림"/>
              </a:rPr>
              <a:t>#1</a:t>
            </a:r>
            <a:br>
              <a:rPr sz="2000"/>
            </a:br>
            <a:r>
              <a:rPr b="1" lang="zh-CN" sz="4400" spc="-1" strike="noStrike">
                <a:solidFill>
                  <a:srgbClr val="333399"/>
                </a:solidFill>
                <a:latin typeface="굴림"/>
              </a:rPr>
              <a:t>아이의 한글 배우기</a:t>
            </a:r>
            <a:endParaRPr b="0" lang="en-US" sz="4400" spc="-1" strike="noStrike">
              <a:solidFill>
                <a:srgbClr val="333399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엄마 아빠 할머니 할아버지 삼촌 정경림 박중신 정동욱 정현욱 박은빈 정수일 유성춘 …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어느 순간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: “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뱘” “뷁” 등의 단어 쓰면서 즐거워함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단어들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&gt;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한글 조합규칙 깨달음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가르쳐주지 않아도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!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가르쳐 줄 수도 없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!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발견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깨달음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비논리적 과정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상상력 또는 창조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컴퓨터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사전의 단어의 발음과 글자 넣어줘도 조합규칙을 스스로 알아낼 수 없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명조"/>
                <a:ea typeface="휴먼명조"/>
              </a:rPr>
              <a:t>한글규칙 습득 </a:t>
            </a:r>
            <a:r>
              <a:rPr b="0" lang="ko-KR" sz="2400" spc="-1" strike="noStrike">
                <a:solidFill>
                  <a:srgbClr val="000000"/>
                </a:solidFill>
                <a:latin typeface="휴먼명조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명조"/>
                <a:ea typeface="휴먼명조"/>
              </a:rPr>
              <a:t>지식 습득 속도 엄청나게 향상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CI Poppy"/>
                <a:ea typeface="휴먼명조"/>
              </a:rPr>
              <a:t>과학적 발견 </a:t>
            </a:r>
            <a:r>
              <a:rPr b="0" lang="ko-KR" sz="2400" spc="-1" strike="noStrike">
                <a:solidFill>
                  <a:srgbClr val="000000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HCI Poppy"/>
                <a:ea typeface="휴먼명조"/>
              </a:rPr>
              <a:t>지식의 새로운 지평 열어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굴림"/>
              </a:rPr>
              <a:t>관찰과 발견 </a:t>
            </a:r>
            <a:r>
              <a:rPr b="1" lang="en-US" sz="2000" spc="-1" strike="noStrike">
                <a:solidFill>
                  <a:srgbClr val="333399"/>
                </a:solidFill>
                <a:latin typeface="굴림"/>
              </a:rPr>
              <a:t>#2</a:t>
            </a:r>
            <a:br>
              <a:rPr sz="2000"/>
            </a:br>
            <a:r>
              <a:rPr b="1" lang="zh-CN" sz="4400" spc="-1" strike="noStrike">
                <a:solidFill>
                  <a:srgbClr val="333399"/>
                </a:solidFill>
                <a:latin typeface="굴림"/>
              </a:rPr>
              <a:t>지식의 새 지평</a:t>
            </a:r>
            <a:endParaRPr b="0" lang="en-US" sz="4400" spc="-1" strike="noStrike">
              <a:solidFill>
                <a:srgbClr val="333399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새로운 체계의 발견 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예측 불가능한 시간 걸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코페르니쿠스 이후 뉴턴 사이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뉴턴 이후 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000000"/>
                </a:solidFill>
                <a:latin typeface="휴먼명조"/>
                <a:ea typeface="휴먼명조"/>
              </a:rPr>
              <a:t>그의 체계에 따라 세계를 재해석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휴먼명조"/>
                <a:ea typeface="휴먼명조"/>
              </a:rPr>
              <a:t>축적된 지식이 다시 뉴턴 체계를 위협하는 시기 </a:t>
            </a:r>
            <a:r>
              <a:rPr b="0" lang="en-US" sz="2400" spc="-1" strike="noStrike">
                <a:solidFill>
                  <a:srgbClr val="000000"/>
                </a:solidFill>
                <a:latin typeface="휴먼명조"/>
                <a:ea typeface="휴먼명조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명조"/>
                <a:ea typeface="휴먼명조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휴먼명조"/>
                <a:ea typeface="휴먼명조"/>
              </a:rPr>
              <a:t>지식의 새로운 순환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굴림"/>
              </a:rPr>
              <a:t>지식과 현실세계</a:t>
            </a:r>
            <a:br>
              <a:rPr sz="2000"/>
            </a:br>
            <a:r>
              <a:rPr b="1" lang="zh-CN" sz="4400" spc="-1" strike="noStrike">
                <a:solidFill>
                  <a:srgbClr val="333399"/>
                </a:solidFill>
                <a:latin typeface="굴림"/>
              </a:rPr>
              <a:t>양자역학의 해석 문제</a:t>
            </a:r>
            <a:endParaRPr b="0" lang="en-US" sz="4400" spc="-1" strike="noStrike">
              <a:solidFill>
                <a:srgbClr val="333399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휴먼명조"/>
                <a:ea typeface="휴먼명조"/>
              </a:rPr>
              <a:t>양자역학적 상태 </a:t>
            </a:r>
            <a:r>
              <a:rPr b="0" lang="en-US" sz="2000" spc="-1" strike="noStrike">
                <a:solidFill>
                  <a:srgbClr val="000000"/>
                </a:solidFill>
                <a:latin typeface="휴먼명조"/>
                <a:ea typeface="휴먼명조"/>
              </a:rPr>
              <a:t>: </a:t>
            </a:r>
            <a:r>
              <a:rPr b="0" lang="zh-CN" sz="2000" spc="-1" strike="noStrike">
                <a:solidFill>
                  <a:srgbClr val="000000"/>
                </a:solidFill>
                <a:latin typeface="휴먼명조"/>
                <a:ea typeface="휴먼명조"/>
              </a:rPr>
              <a:t>입자도 파동도 아닌 무언가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휴먼명조"/>
                <a:ea typeface="휴먼명조"/>
              </a:rPr>
              <a:t>고전 역학적인 입자와 파동의 개념을 이해하고 난 후</a:t>
            </a:r>
            <a:r>
              <a:rPr b="0" lang="en-US" sz="2000" spc="-1" strike="noStrike">
                <a:solidFill>
                  <a:srgbClr val="000000"/>
                </a:solidFill>
                <a:latin typeface="HCI Poppy"/>
                <a:ea typeface="휴먼명조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휴먼명조"/>
                <a:ea typeface="휴먼명조"/>
              </a:rPr>
              <a:t>다시 이를 부정해야만 하는 괴이한 과정이 필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휴먼명조"/>
                <a:ea typeface="휴먼명조"/>
              </a:rPr>
              <a:t>이러한 작업 없이 ‘상태’는 방정식의 기호에 불과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휴먼명조"/>
                <a:ea typeface="휴먼명조"/>
              </a:rPr>
              <a:t>양자역학의 이해 </a:t>
            </a:r>
            <a:r>
              <a:rPr b="0" lang="en-US" sz="2000" spc="-1" strike="noStrike">
                <a:solidFill>
                  <a:srgbClr val="000000"/>
                </a:solidFill>
                <a:latin typeface="휴먼명조"/>
                <a:ea typeface="휴먼명조"/>
              </a:rPr>
              <a:t>: ‘</a:t>
            </a:r>
            <a:r>
              <a:rPr b="0" lang="zh-CN" sz="2000" spc="-1" strike="noStrike">
                <a:solidFill>
                  <a:srgbClr val="000000"/>
                </a:solidFill>
                <a:latin typeface="휴먼명조"/>
                <a:ea typeface="휴먼명조"/>
              </a:rPr>
              <a:t>잘못된’ 고전 역학과의 비교 및 부정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휴먼명조"/>
                <a:ea typeface="휴먼명조"/>
              </a:rPr>
              <a:t>즉</a:t>
            </a:r>
            <a:r>
              <a:rPr b="0" lang="en-US" sz="2000" spc="-1" strike="noStrike">
                <a:solidFill>
                  <a:srgbClr val="000000"/>
                </a:solidFill>
                <a:latin typeface="휴먼명조"/>
                <a:ea typeface="휴먼명조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휴먼명조"/>
                <a:ea typeface="휴먼명조"/>
              </a:rPr>
              <a:t>중학교 때의 물리 교육이 거짓말만은 아니며 필요한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휴먼명조"/>
                <a:ea typeface="휴먼명조"/>
              </a:rPr>
              <a:t>겹겹의 층으로 이루어진 경험과 의미들의 얼개는 보다 추상적인 개념을 현실세계와 이어주는 역할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휴먼명조"/>
                <a:ea typeface="휴먼명조"/>
              </a:rPr>
              <a:t>겹겹의 층들을 해체할 경우</a:t>
            </a:r>
            <a:r>
              <a:rPr b="0" lang="en-US" sz="2000" spc="-1" strike="noStrike">
                <a:solidFill>
                  <a:srgbClr val="000000"/>
                </a:solidFill>
                <a:latin typeface="HCI Poppy"/>
                <a:ea typeface="휴먼명조"/>
              </a:rPr>
              <a:t>, ‘</a:t>
            </a:r>
            <a:r>
              <a:rPr b="0" lang="zh-CN" sz="2000" spc="-1" strike="noStrike">
                <a:solidFill>
                  <a:srgbClr val="000000"/>
                </a:solidFill>
                <a:latin typeface="HCI Poppy"/>
                <a:ea typeface="휴먼명조"/>
              </a:rPr>
              <a:t>상태’ </a:t>
            </a:r>
            <a:r>
              <a:rPr b="0" lang="en-US" sz="2000" spc="-1" strike="noStrike">
                <a:solidFill>
                  <a:srgbClr val="000000"/>
                </a:solidFill>
                <a:latin typeface="HCI Poppy"/>
                <a:ea typeface="휴먼명조"/>
              </a:rPr>
              <a:t>, m, F </a:t>
            </a:r>
            <a:r>
              <a:rPr b="0" lang="zh-CN" sz="2000" spc="-1" strike="noStrike">
                <a:solidFill>
                  <a:srgbClr val="000000"/>
                </a:solidFill>
                <a:latin typeface="휴먼명조"/>
                <a:ea typeface="휴먼명조"/>
              </a:rPr>
              <a:t>등의 의미는 사라지며</a:t>
            </a:r>
            <a:r>
              <a:rPr b="0" lang="en-US" sz="2000" spc="-1" strike="noStrike">
                <a:solidFill>
                  <a:srgbClr val="000000"/>
                </a:solidFill>
                <a:latin typeface="HCI Poppy"/>
                <a:ea typeface="휴먼명조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휴먼명조"/>
                <a:ea typeface="휴먼명조"/>
              </a:rPr>
              <a:t>물리학은 허공에 떠있는 자기만의 체계가 되어버릴 것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굴림"/>
              </a:rPr>
              <a:t>맺음말 </a:t>
            </a:r>
            <a:r>
              <a:rPr b="1" lang="en-US" sz="4400" spc="-1" strike="noStrike">
                <a:solidFill>
                  <a:srgbClr val="333399"/>
                </a:solidFill>
                <a:latin typeface="굴림"/>
              </a:rPr>
              <a:t>#1</a:t>
            </a:r>
            <a:endParaRPr b="0" lang="en-US" sz="4400" spc="-1" strike="noStrike">
              <a:solidFill>
                <a:srgbClr val="333399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명조"/>
                <a:ea typeface="휴먼명조"/>
              </a:rPr>
              <a:t>우리의 인식은 실재를 복사하듯 그대로 반영하지 못한다</a:t>
            </a:r>
            <a:r>
              <a:rPr b="0" lang="ko-KR" sz="2400" spc="-1" strike="noStrike">
                <a:solidFill>
                  <a:srgbClr val="000000"/>
                </a:solidFill>
                <a:latin typeface="HCI Poppy"/>
                <a:ea typeface="휴먼명조"/>
              </a:rPr>
              <a:t>. </a:t>
            </a:r>
            <a:r>
              <a:rPr b="0" lang="ko-KR" sz="2400" spc="-1" strike="noStrike">
                <a:solidFill>
                  <a:srgbClr val="000000"/>
                </a:solidFill>
                <a:latin typeface="휴먼명조"/>
                <a:ea typeface="휴먼명조"/>
              </a:rPr>
              <a:t>대신 추상적인 개념을 이용해 그것들을 재구성해 실재를 이해할 뿐이다</a:t>
            </a:r>
            <a:r>
              <a:rPr b="0" lang="ko-KR" sz="2400" spc="-1" strike="noStrike">
                <a:solidFill>
                  <a:srgbClr val="000000"/>
                </a:solidFill>
                <a:latin typeface="HCI Poppy"/>
                <a:ea typeface="휴먼명조"/>
              </a:rPr>
              <a:t>. </a:t>
            </a:r>
            <a:r>
              <a:rPr b="0" lang="ko-KR" sz="2400" spc="-1" strike="noStrike">
                <a:solidFill>
                  <a:srgbClr val="000000"/>
                </a:solidFill>
                <a:latin typeface="휴먼명조"/>
                <a:ea typeface="휴먼명조"/>
              </a:rPr>
              <a:t>그러한 인식적 기반 위에 있는 지식에는 오류와 모순이 내재해 있을 수 있고</a:t>
            </a:r>
            <a:r>
              <a:rPr b="0" lang="ko-KR" sz="2400" spc="-1" strike="noStrike">
                <a:solidFill>
                  <a:srgbClr val="000000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휴먼명조"/>
                <a:ea typeface="휴먼명조"/>
              </a:rPr>
              <a:t>자기순환적인 논리가 숨어있게 마련이다</a:t>
            </a:r>
            <a:r>
              <a:rPr b="0" lang="ko-KR" sz="2400" spc="-1" strike="noStrike">
                <a:solidFill>
                  <a:srgbClr val="000000"/>
                </a:solidFill>
                <a:latin typeface="HCI Poppy"/>
                <a:ea typeface="휴먼명조"/>
              </a:rPr>
              <a:t>. </a:t>
            </a:r>
            <a:r>
              <a:rPr b="0" lang="ko-KR" sz="2400" spc="-1" strike="noStrike">
                <a:solidFill>
                  <a:srgbClr val="000000"/>
                </a:solidFill>
                <a:latin typeface="휴먼명조"/>
                <a:ea typeface="휴먼명조"/>
              </a:rPr>
              <a:t>경험과 의미의 층들이 겹겹이 포개어진 불분명한 개념들 또한 지식의 기반을 이루고 있다</a:t>
            </a:r>
            <a:r>
              <a:rPr b="0" lang="ko-KR" sz="2400" spc="-1" strike="noStrike">
                <a:solidFill>
                  <a:srgbClr val="000000"/>
                </a:solidFill>
                <a:latin typeface="HCI Poppy"/>
                <a:ea typeface="휴먼명조"/>
              </a:rPr>
              <a:t>. </a:t>
            </a:r>
            <a:r>
              <a:rPr b="0" lang="ko-KR" sz="2400" spc="-1" strike="noStrike">
                <a:solidFill>
                  <a:srgbClr val="000000"/>
                </a:solidFill>
                <a:latin typeface="휴먼명조"/>
                <a:ea typeface="휴먼명조"/>
              </a:rPr>
              <a:t>그러한 불안한 기반 위에 서있는 인간의 지식은 역설적으로 많은 가능성 또한 가지고 있다</a:t>
            </a:r>
            <a:r>
              <a:rPr b="0" lang="ko-KR" sz="2400" spc="-1" strike="noStrike">
                <a:solidFill>
                  <a:srgbClr val="000000"/>
                </a:solidFill>
                <a:latin typeface="HCI Poppy"/>
                <a:ea typeface="휴먼명조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굴림"/>
              </a:rPr>
              <a:t>맺음말 </a:t>
            </a:r>
            <a:r>
              <a:rPr b="1" lang="en-US" sz="4400" spc="-1" strike="noStrike">
                <a:solidFill>
                  <a:srgbClr val="333399"/>
                </a:solidFill>
                <a:latin typeface="굴림"/>
              </a:rPr>
              <a:t>#2</a:t>
            </a:r>
            <a:endParaRPr b="0" lang="en-US" sz="4400" spc="-1" strike="noStrike">
              <a:solidFill>
                <a:srgbClr val="333399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명조"/>
                <a:ea typeface="휴먼명조"/>
              </a:rPr>
              <a:t>튜링머신은 연역적 추론만이 가능하며</a:t>
            </a:r>
            <a:r>
              <a:rPr b="0" lang="ko-KR" sz="2400" spc="-1" strike="noStrike">
                <a:solidFill>
                  <a:srgbClr val="000000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휴먼명조"/>
                <a:ea typeface="휴먼명조"/>
              </a:rPr>
              <a:t>수집된 정보를 이용해 절대 그보다 상위의 개념을 만들어낼 수 없다</a:t>
            </a:r>
            <a:r>
              <a:rPr b="0" lang="ko-KR" sz="2400" spc="-1" strike="noStrike">
                <a:solidFill>
                  <a:srgbClr val="000000"/>
                </a:solidFill>
                <a:latin typeface="HCI Poppy"/>
                <a:ea typeface="휴먼명조"/>
              </a:rPr>
              <a:t>. </a:t>
            </a:r>
            <a:r>
              <a:rPr b="0" lang="ko-KR" sz="2400" spc="-1" strike="noStrike">
                <a:solidFill>
                  <a:srgbClr val="000000"/>
                </a:solidFill>
                <a:latin typeface="휴먼명조"/>
                <a:ea typeface="휴먼명조"/>
              </a:rPr>
              <a:t>하지만</a:t>
            </a:r>
            <a:r>
              <a:rPr b="0" lang="ko-KR" sz="2400" spc="-1" strike="noStrike">
                <a:solidFill>
                  <a:srgbClr val="000000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휴먼명조"/>
                <a:ea typeface="휴먼명조"/>
              </a:rPr>
              <a:t>인간은 사후에 틀렸다는 평가를 받을 지는 몰라도</a:t>
            </a:r>
            <a:r>
              <a:rPr b="0" lang="ko-KR" sz="2400" spc="-1" strike="noStrike">
                <a:solidFill>
                  <a:srgbClr val="000000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휴먼명조"/>
                <a:ea typeface="휴먼명조"/>
              </a:rPr>
              <a:t>구체적 정보들 속에서 의미있는 무언가를 뽑아내는 능력이 있다</a:t>
            </a:r>
            <a:r>
              <a:rPr b="0" lang="ko-KR" sz="2400" spc="-1" strike="noStrike">
                <a:solidFill>
                  <a:srgbClr val="000000"/>
                </a:solidFill>
                <a:latin typeface="HCI Poppy"/>
                <a:ea typeface="휴먼명조"/>
              </a:rPr>
              <a:t>. </a:t>
            </a:r>
            <a:r>
              <a:rPr b="0" lang="ko-KR" sz="2400" spc="-1" strike="noStrike">
                <a:solidFill>
                  <a:srgbClr val="000000"/>
                </a:solidFill>
                <a:latin typeface="휴먼명조"/>
                <a:ea typeface="휴먼명조"/>
              </a:rPr>
              <a:t>그러한 인간 인식의 특성은 인간 지식의 가능성과 한계를 말해주고 있는 듯하다</a:t>
            </a:r>
            <a:r>
              <a:rPr b="0" lang="ko-KR" sz="2400" spc="-1" strike="noStrike">
                <a:solidFill>
                  <a:srgbClr val="000000"/>
                </a:solidFill>
                <a:latin typeface="HCI Poppy"/>
                <a:ea typeface="휴먼명조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1152000"/>
            <a:ext cx="77929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굴림"/>
              </a:rPr>
              <a:t>제 </a:t>
            </a:r>
            <a:r>
              <a:rPr b="1" lang="en-US" sz="2000" spc="-1" strike="noStrike">
                <a:solidFill>
                  <a:srgbClr val="333399"/>
                </a:solidFill>
                <a:latin typeface="굴림"/>
              </a:rPr>
              <a:t>1</a:t>
            </a:r>
            <a:r>
              <a:rPr b="1" lang="zh-CN" sz="2000" spc="-1" strike="noStrike">
                <a:solidFill>
                  <a:srgbClr val="333399"/>
                </a:solidFill>
                <a:latin typeface="굴림"/>
              </a:rPr>
              <a:t>원리의 자기순환적 성격 </a:t>
            </a:r>
            <a:r>
              <a:rPr b="1" lang="en-US" sz="2000" spc="-1" strike="noStrike">
                <a:solidFill>
                  <a:srgbClr val="333399"/>
                </a:solidFill>
                <a:latin typeface="굴림"/>
              </a:rPr>
              <a:t>#1</a:t>
            </a:r>
            <a:br>
              <a:rPr sz="2000"/>
            </a:br>
            <a:r>
              <a:rPr b="1" lang="zh-CN" sz="4400" spc="-1" strike="noStrike">
                <a:solidFill>
                  <a:srgbClr val="333399"/>
                </a:solidFill>
                <a:latin typeface="굴림"/>
              </a:rPr>
              <a:t>고전 역학의 제 </a:t>
            </a:r>
            <a:r>
              <a:rPr b="1" lang="en-US" sz="4400" spc="-1" strike="noStrike">
                <a:solidFill>
                  <a:srgbClr val="333399"/>
                </a:solidFill>
                <a:latin typeface="굴림"/>
              </a:rPr>
              <a:t>1</a:t>
            </a:r>
            <a:r>
              <a:rPr b="1" lang="zh-CN" sz="4400" spc="-1" strike="noStrike">
                <a:solidFill>
                  <a:srgbClr val="333399"/>
                </a:solidFill>
                <a:latin typeface="굴림"/>
              </a:rPr>
              <a:t>원리</a:t>
            </a:r>
            <a:endParaRPr b="0" lang="en-US" sz="4400" spc="-1" strike="noStrike">
              <a:solidFill>
                <a:srgbClr val="333399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19320" y="2017800"/>
            <a:ext cx="7735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운동의 제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법칙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F=ma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F=ma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는 경험법칙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?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이는 착각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질량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m) :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힘에 대한 관성량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힘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F) :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물체의 운동을 변화시키는 원인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즉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F=ma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자체가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m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과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F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의 정의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즉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F=ma :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고전 역학 체계의 공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명조"/>
                <a:ea typeface="휴먼명조"/>
              </a:rPr>
              <a:t>내적으로 자기순환적인 논리체계</a:t>
            </a:r>
            <a:r>
              <a:rPr b="0" lang="ko-KR" sz="2400" spc="-1" strike="noStrike">
                <a:solidFill>
                  <a:srgbClr val="000000"/>
                </a:solidFill>
                <a:latin typeface="휴먼명조"/>
                <a:ea typeface="휴먼명조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명조"/>
                <a:ea typeface="휴먼명조"/>
              </a:rPr>
              <a:t>믿는 순간 엄청나게 많은 현상들이 설명 가능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굴림"/>
              </a:rPr>
              <a:t>제 </a:t>
            </a:r>
            <a:r>
              <a:rPr b="1" lang="en-US" sz="2000" spc="-1" strike="noStrike">
                <a:solidFill>
                  <a:srgbClr val="333399"/>
                </a:solidFill>
                <a:latin typeface="굴림"/>
              </a:rPr>
              <a:t>1</a:t>
            </a:r>
            <a:r>
              <a:rPr b="1" lang="zh-CN" sz="2000" spc="-1" strike="noStrike">
                <a:solidFill>
                  <a:srgbClr val="333399"/>
                </a:solidFill>
                <a:latin typeface="굴림"/>
              </a:rPr>
              <a:t>원리의 자기순환적 성격 </a:t>
            </a:r>
            <a:r>
              <a:rPr b="1" lang="en-US" sz="2000" spc="-1" strike="noStrike">
                <a:solidFill>
                  <a:srgbClr val="333399"/>
                </a:solidFill>
                <a:latin typeface="굴림"/>
              </a:rPr>
              <a:t>#2</a:t>
            </a:r>
            <a:br>
              <a:rPr sz="2000"/>
            </a:br>
            <a:r>
              <a:rPr b="1" lang="zh-CN" sz="4400" spc="-1" strike="noStrike">
                <a:solidFill>
                  <a:srgbClr val="333399"/>
                </a:solidFill>
                <a:latin typeface="굴림"/>
              </a:rPr>
              <a:t>일상적인 개념들</a:t>
            </a:r>
            <a:endParaRPr b="0" lang="en-US" sz="4400" spc="-1" strike="noStrike">
              <a:solidFill>
                <a:srgbClr val="333399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휴먼명조"/>
                <a:ea typeface="휴먼명조"/>
              </a:rPr>
              <a:t>생각 </a:t>
            </a:r>
            <a:r>
              <a:rPr b="0" lang="en-US" sz="2400" spc="-1" strike="noStrike">
                <a:solidFill>
                  <a:srgbClr val="000000"/>
                </a:solidFill>
                <a:latin typeface="HCI Poppy"/>
                <a:ea typeface="휴먼명조"/>
              </a:rPr>
              <a:t>: </a:t>
            </a:r>
            <a:r>
              <a:rPr b="0" lang="zh-CN" sz="2400" spc="-1" strike="noStrike">
                <a:solidFill>
                  <a:srgbClr val="000000"/>
                </a:solidFill>
                <a:latin typeface="휴먼명조"/>
                <a:ea typeface="휴먼명조"/>
              </a:rPr>
              <a:t>궁리함</a:t>
            </a:r>
            <a:r>
              <a:rPr b="0" lang="en-US" sz="2400" spc="-1" strike="noStrike">
                <a:solidFill>
                  <a:srgbClr val="000000"/>
                </a:solidFill>
                <a:latin typeface="HCI Poppy"/>
                <a:ea typeface="휴먼명조"/>
              </a:rPr>
              <a:t>. </a:t>
            </a:r>
            <a:r>
              <a:rPr b="0" lang="zh-CN" sz="2400" spc="-1" strike="noStrike">
                <a:solidFill>
                  <a:srgbClr val="000000"/>
                </a:solidFill>
                <a:latin typeface="휴먼명조"/>
                <a:ea typeface="휴먼명조"/>
              </a:rPr>
              <a:t>사고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휴먼명조"/>
                <a:ea typeface="휴먼명조"/>
              </a:rPr>
              <a:t>궁리 </a:t>
            </a:r>
            <a:r>
              <a:rPr b="0" lang="en-US" sz="2400" spc="-1" strike="noStrike">
                <a:solidFill>
                  <a:srgbClr val="000000"/>
                </a:solidFill>
                <a:latin typeface="HCI Poppy"/>
                <a:ea typeface="휴먼명조"/>
              </a:rPr>
              <a:t>: </a:t>
            </a:r>
            <a:r>
              <a:rPr b="0" lang="zh-CN" sz="2400" spc="-1" strike="noStrike">
                <a:solidFill>
                  <a:srgbClr val="000000"/>
                </a:solidFill>
                <a:latin typeface="휴먼명조"/>
                <a:ea typeface="휴먼명조"/>
              </a:rPr>
              <a:t>깊이 생각함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휴먼명조"/>
                <a:ea typeface="휴먼명조"/>
              </a:rPr>
              <a:t>사고 </a:t>
            </a:r>
            <a:r>
              <a:rPr b="0" lang="en-US" sz="2400" spc="-1" strike="noStrike">
                <a:solidFill>
                  <a:srgbClr val="000000"/>
                </a:solidFill>
                <a:latin typeface="HCI Poppy"/>
                <a:ea typeface="휴먼명조"/>
              </a:rPr>
              <a:t>: </a:t>
            </a:r>
            <a:r>
              <a:rPr b="0" lang="zh-CN" sz="2400" spc="-1" strike="noStrike">
                <a:solidFill>
                  <a:srgbClr val="000000"/>
                </a:solidFill>
                <a:latin typeface="휴먼명조"/>
                <a:ea typeface="휴먼명조"/>
              </a:rPr>
              <a:t>생각함</a:t>
            </a:r>
            <a:r>
              <a:rPr b="0" lang="en-US" sz="2400" spc="-1" strike="noStrike">
                <a:solidFill>
                  <a:srgbClr val="000000"/>
                </a:solidFill>
                <a:latin typeface="HCI Poppy"/>
                <a:ea typeface="휴먼명조"/>
              </a:rPr>
              <a:t>. </a:t>
            </a:r>
            <a:r>
              <a:rPr b="0" lang="zh-CN" sz="2400" spc="-1" strike="noStrike">
                <a:solidFill>
                  <a:srgbClr val="000000"/>
                </a:solidFill>
                <a:latin typeface="휴먼명조"/>
                <a:ea typeface="휴먼명조"/>
              </a:rPr>
              <a:t>궁리함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휴먼명조"/>
                <a:ea typeface="휴먼명조"/>
              </a:rPr>
              <a:t>언어 하나하나에 시비를 걸기 시작하면 끝이 없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휴먼명조"/>
                <a:ea typeface="휴먼명조"/>
              </a:rPr>
              <a:t>반대로 그 언어를 믿고 따르면 사람들과 소통을 할 수 있고</a:t>
            </a:r>
            <a:r>
              <a:rPr b="0" lang="en-US" sz="2400" spc="-1" strike="noStrike">
                <a:solidFill>
                  <a:srgbClr val="000000"/>
                </a:solidFill>
                <a:latin typeface="HCI Poppy"/>
                <a:ea typeface="휴먼명조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휴먼명조"/>
                <a:ea typeface="휴먼명조"/>
              </a:rPr>
              <a:t>세계에 대해 이런저런 해석들을 할 수가 있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굴림"/>
              </a:rPr>
              <a:t>제 </a:t>
            </a:r>
            <a:r>
              <a:rPr b="1" lang="en-US" sz="2000" spc="-1" strike="noStrike">
                <a:solidFill>
                  <a:srgbClr val="333399"/>
                </a:solidFill>
                <a:latin typeface="굴림"/>
              </a:rPr>
              <a:t>1</a:t>
            </a:r>
            <a:r>
              <a:rPr b="1" lang="zh-CN" sz="2000" spc="-1" strike="noStrike">
                <a:solidFill>
                  <a:srgbClr val="333399"/>
                </a:solidFill>
                <a:latin typeface="굴림"/>
              </a:rPr>
              <a:t>원리 및 보편개념의 위상 </a:t>
            </a:r>
            <a:r>
              <a:rPr b="1" lang="en-US" sz="2000" spc="-1" strike="noStrike">
                <a:solidFill>
                  <a:srgbClr val="333399"/>
                </a:solidFill>
                <a:latin typeface="굴림"/>
              </a:rPr>
              <a:t>#1</a:t>
            </a:r>
            <a:br>
              <a:rPr sz="2000"/>
            </a:br>
            <a:r>
              <a:rPr b="1" lang="zh-CN" sz="4400" spc="-1" strike="noStrike">
                <a:solidFill>
                  <a:srgbClr val="333399"/>
                </a:solidFill>
                <a:latin typeface="굴림"/>
              </a:rPr>
              <a:t>플라톤의 이데아론</a:t>
            </a:r>
            <a:endParaRPr b="0" lang="en-US" sz="4400" spc="-1" strike="noStrike">
              <a:solidFill>
                <a:srgbClr val="333399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보편개념 없인 세계 이해 불가능 인식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보편개념의 생성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변화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소멸 가능성 모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보편개념의 절대화 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이데아론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휴먼명조"/>
                <a:ea typeface="휴먼명조"/>
              </a:rPr>
              <a:t>보편적인 고양이 </a:t>
            </a:r>
            <a:r>
              <a:rPr b="0" lang="en-US" sz="2400" spc="-1" strike="noStrike">
                <a:solidFill>
                  <a:srgbClr val="000000"/>
                </a:solidFill>
                <a:latin typeface="HCI Poppy"/>
                <a:ea typeface="휴먼명조"/>
              </a:rPr>
              <a:t>(universal cattiness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휴먼명조"/>
                <a:ea typeface="휴먼명조"/>
              </a:rPr>
              <a:t>고유명사 </a:t>
            </a:r>
            <a:r>
              <a:rPr b="0" lang="en-US" sz="2400" spc="-1" strike="noStrike">
                <a:solidFill>
                  <a:srgbClr val="000000"/>
                </a:solidFill>
                <a:latin typeface="휴먼명조"/>
                <a:ea typeface="휴먼명조"/>
              </a:rPr>
              <a:t>: </a:t>
            </a:r>
            <a:r>
              <a:rPr b="0" lang="zh-CN" sz="2400" spc="-1" strike="noStrike">
                <a:solidFill>
                  <a:srgbClr val="000000"/>
                </a:solidFill>
                <a:latin typeface="휴먼명조"/>
                <a:ea typeface="휴먼명조"/>
              </a:rPr>
              <a:t>개별 사물들을 지칭만 할 뿐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휴먼명조"/>
                <a:ea typeface="휴먼명조"/>
              </a:rPr>
              <a:t>일반명사 </a:t>
            </a:r>
            <a:r>
              <a:rPr b="0" lang="en-US" sz="2400" spc="-1" strike="noStrike">
                <a:solidFill>
                  <a:srgbClr val="000000"/>
                </a:solidFill>
                <a:latin typeface="휴먼명조"/>
                <a:ea typeface="휴먼명조"/>
              </a:rPr>
              <a:t>: </a:t>
            </a:r>
            <a:r>
              <a:rPr b="0" lang="zh-CN" sz="2400" spc="-1" strike="noStrike">
                <a:solidFill>
                  <a:srgbClr val="000000"/>
                </a:solidFill>
                <a:latin typeface="휴먼명조"/>
                <a:ea typeface="휴먼명조"/>
              </a:rPr>
              <a:t>대상에 의미를 부여</a:t>
            </a:r>
            <a:r>
              <a:rPr b="0" lang="en-US" sz="2400" spc="-1" strike="noStrike">
                <a:solidFill>
                  <a:srgbClr val="000000"/>
                </a:solidFill>
                <a:latin typeface="HCI Poppy"/>
                <a:ea typeface="휴먼명조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휴먼명조"/>
                <a:ea typeface="휴먼명조"/>
              </a:rPr>
              <a:t>지식 형성 가능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굴림"/>
              </a:rPr>
              <a:t>제 </a:t>
            </a:r>
            <a:r>
              <a:rPr b="1" lang="en-US" sz="2000" spc="-1" strike="noStrike">
                <a:solidFill>
                  <a:srgbClr val="333399"/>
                </a:solidFill>
                <a:latin typeface="굴림"/>
              </a:rPr>
              <a:t>1</a:t>
            </a:r>
            <a:r>
              <a:rPr b="1" lang="zh-CN" sz="2000" spc="-1" strike="noStrike">
                <a:solidFill>
                  <a:srgbClr val="333399"/>
                </a:solidFill>
                <a:latin typeface="굴림"/>
              </a:rPr>
              <a:t>원리 및 보편개념의 위상 </a:t>
            </a:r>
            <a:r>
              <a:rPr b="1" lang="en-US" sz="2000" spc="-1" strike="noStrike">
                <a:solidFill>
                  <a:srgbClr val="333399"/>
                </a:solidFill>
                <a:latin typeface="굴림"/>
              </a:rPr>
              <a:t>#2</a:t>
            </a:r>
            <a:br>
              <a:rPr sz="2000"/>
            </a:br>
            <a:r>
              <a:rPr b="1" lang="zh-CN" sz="4400" spc="-1" strike="noStrike">
                <a:solidFill>
                  <a:srgbClr val="333399"/>
                </a:solidFill>
                <a:latin typeface="굴림"/>
              </a:rPr>
              <a:t>개별</a:t>
            </a:r>
            <a:r>
              <a:rPr b="1" lang="en-US" sz="4400" spc="-1" strike="noStrike">
                <a:solidFill>
                  <a:srgbClr val="333399"/>
                </a:solidFill>
                <a:latin typeface="굴림"/>
              </a:rPr>
              <a:t>-</a:t>
            </a:r>
            <a:r>
              <a:rPr b="1" lang="zh-CN" sz="4400" spc="-1" strike="noStrike">
                <a:solidFill>
                  <a:srgbClr val="333399"/>
                </a:solidFill>
                <a:latin typeface="굴림"/>
              </a:rPr>
              <a:t>특수</a:t>
            </a:r>
            <a:r>
              <a:rPr b="1" lang="en-US" sz="4400" spc="-1" strike="noStrike">
                <a:solidFill>
                  <a:srgbClr val="333399"/>
                </a:solidFill>
                <a:latin typeface="굴림"/>
              </a:rPr>
              <a:t>-</a:t>
            </a:r>
            <a:r>
              <a:rPr b="1" lang="zh-CN" sz="4400" spc="-1" strike="noStrike">
                <a:solidFill>
                  <a:srgbClr val="333399"/>
                </a:solidFill>
                <a:latin typeface="굴림"/>
              </a:rPr>
              <a:t>보편</a:t>
            </a:r>
            <a:endParaRPr b="0" lang="en-US" sz="4400" spc="-1" strike="noStrike">
              <a:solidFill>
                <a:srgbClr val="333399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8" name="icon" descr=""/>
          <p:cNvPicPr/>
          <p:nvPr/>
        </p:nvPicPr>
        <p:blipFill>
          <a:blip r:embed="rId1"/>
          <a:stretch/>
        </p:blipFill>
        <p:spPr>
          <a:xfrm>
            <a:off x="1219320" y="2057400"/>
            <a:ext cx="685800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굴림"/>
              </a:rPr>
              <a:t>제 </a:t>
            </a:r>
            <a:r>
              <a:rPr b="1" lang="en-US" sz="2000" spc="-1" strike="noStrike">
                <a:solidFill>
                  <a:srgbClr val="333399"/>
                </a:solidFill>
                <a:latin typeface="굴림"/>
              </a:rPr>
              <a:t>1</a:t>
            </a:r>
            <a:r>
              <a:rPr b="1" lang="zh-CN" sz="2000" spc="-1" strike="noStrike">
                <a:solidFill>
                  <a:srgbClr val="333399"/>
                </a:solidFill>
                <a:latin typeface="굴림"/>
              </a:rPr>
              <a:t>원리 및 보편개념의 위상 </a:t>
            </a:r>
            <a:r>
              <a:rPr b="1" lang="en-US" sz="2000" spc="-1" strike="noStrike">
                <a:solidFill>
                  <a:srgbClr val="333399"/>
                </a:solidFill>
                <a:latin typeface="굴림"/>
              </a:rPr>
              <a:t>#3</a:t>
            </a:r>
            <a:br>
              <a:rPr sz="2000"/>
            </a:br>
            <a:r>
              <a:rPr b="1" lang="zh-CN" sz="4400" spc="-1" strike="noStrike">
                <a:solidFill>
                  <a:srgbClr val="333399"/>
                </a:solidFill>
                <a:latin typeface="굴림"/>
              </a:rPr>
              <a:t>보편</a:t>
            </a:r>
            <a:r>
              <a:rPr b="1" lang="en-US" sz="4400" spc="-1" strike="noStrike">
                <a:solidFill>
                  <a:srgbClr val="333399"/>
                </a:solidFill>
                <a:latin typeface="굴림"/>
              </a:rPr>
              <a:t>(</a:t>
            </a:r>
            <a:r>
              <a:rPr b="1" lang="zh-CN" sz="4400" spc="-1" strike="noStrike">
                <a:solidFill>
                  <a:srgbClr val="333399"/>
                </a:solidFill>
                <a:latin typeface="굴림"/>
              </a:rPr>
              <a:t>상징</a:t>
            </a:r>
            <a:r>
              <a:rPr b="1" lang="en-US" sz="4400" spc="-1" strike="noStrike">
                <a:solidFill>
                  <a:srgbClr val="333399"/>
                </a:solidFill>
                <a:latin typeface="굴림"/>
              </a:rPr>
              <a:t>)</a:t>
            </a:r>
            <a:r>
              <a:rPr b="1" lang="zh-CN" sz="4400" spc="-1" strike="noStrike">
                <a:solidFill>
                  <a:srgbClr val="333399"/>
                </a:solidFill>
                <a:latin typeface="굴림"/>
              </a:rPr>
              <a:t>과 의미</a:t>
            </a:r>
            <a:endParaRPr b="0" lang="en-US" sz="4400" spc="-1" strike="noStrike">
              <a:solidFill>
                <a:srgbClr val="333399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미소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웃음…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구체성 버림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의미 획득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최고의 상징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언어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1" name="emoticon" descr=""/>
          <p:cNvPicPr/>
          <p:nvPr/>
        </p:nvPicPr>
        <p:blipFill>
          <a:blip r:embed="rId1"/>
          <a:stretch/>
        </p:blipFill>
        <p:spPr>
          <a:xfrm>
            <a:off x="1219320" y="2057400"/>
            <a:ext cx="5524560" cy="571680"/>
          </a:xfrm>
          <a:prstGeom prst="rect">
            <a:avLst/>
          </a:prstGeom>
          <a:ln w="0">
            <a:noFill/>
          </a:ln>
        </p:spPr>
      </p:pic>
      <p:pic>
        <p:nvPicPr>
          <p:cNvPr id="112" name="icon2" descr=""/>
          <p:cNvPicPr/>
          <p:nvPr/>
        </p:nvPicPr>
        <p:blipFill>
          <a:blip r:embed="rId2"/>
          <a:stretch/>
        </p:blipFill>
        <p:spPr>
          <a:xfrm>
            <a:off x="5257800" y="3352680"/>
            <a:ext cx="2128680" cy="27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굴림"/>
              </a:rPr>
              <a:t>관찰과 인식 </a:t>
            </a:r>
            <a:r>
              <a:rPr b="1" lang="en-US" sz="2000" spc="-1" strike="noStrike">
                <a:solidFill>
                  <a:srgbClr val="333399"/>
                </a:solidFill>
                <a:latin typeface="굴림"/>
              </a:rPr>
              <a:t>#1</a:t>
            </a:r>
            <a:br>
              <a:rPr sz="2000"/>
            </a:br>
            <a:r>
              <a:rPr b="1" lang="zh-CN" sz="4400" spc="-1" strike="noStrike">
                <a:solidFill>
                  <a:srgbClr val="333399"/>
                </a:solidFill>
                <a:latin typeface="굴림"/>
              </a:rPr>
              <a:t>아이의 그림 그리기</a:t>
            </a:r>
            <a:endParaRPr b="0" lang="en-US" sz="4400" spc="-1" strike="noStrike">
              <a:solidFill>
                <a:srgbClr val="333399"/>
              </a:solidFill>
              <a:latin typeface="굴림"/>
            </a:endParaRPr>
          </a:p>
        </p:txBody>
      </p:sp>
      <p:pic>
        <p:nvPicPr>
          <p:cNvPr id="114" name="agypt2" descr=""/>
          <p:cNvPicPr/>
          <p:nvPr/>
        </p:nvPicPr>
        <p:blipFill>
          <a:blip r:embed="rId1"/>
          <a:stretch/>
        </p:blipFill>
        <p:spPr>
          <a:xfrm>
            <a:off x="1219320" y="2057400"/>
            <a:ext cx="3213000" cy="28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굴림"/>
              </a:rPr>
              <a:t>관찰과 인식 </a:t>
            </a:r>
            <a:r>
              <a:rPr b="1" lang="en-US" sz="2000" spc="-1" strike="noStrike">
                <a:solidFill>
                  <a:srgbClr val="333399"/>
                </a:solidFill>
                <a:latin typeface="굴림"/>
              </a:rPr>
              <a:t>#2</a:t>
            </a:r>
            <a:br>
              <a:rPr sz="2000"/>
            </a:br>
            <a:r>
              <a:rPr b="1" lang="zh-CN" sz="4400" spc="-1" strike="noStrike">
                <a:solidFill>
                  <a:srgbClr val="333399"/>
                </a:solidFill>
                <a:latin typeface="굴림"/>
              </a:rPr>
              <a:t>일반인과 화가 </a:t>
            </a:r>
            <a:r>
              <a:rPr b="1" lang="en-US" sz="4400" spc="-1" strike="noStrike">
                <a:solidFill>
                  <a:srgbClr val="333399"/>
                </a:solidFill>
                <a:latin typeface="굴림"/>
              </a:rPr>
              <a:t>..</a:t>
            </a:r>
            <a:endParaRPr b="0" lang="en-US" sz="4400" spc="-1" strike="noStrike">
              <a:solidFill>
                <a:srgbClr val="333399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일반인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명조"/>
                <a:ea typeface="휴먼명조"/>
              </a:rPr>
              <a:t>윤곽선에 집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명조"/>
                <a:ea typeface="휴먼명조"/>
              </a:rPr>
              <a:t>   </a:t>
            </a:r>
            <a:r>
              <a:rPr b="0" lang="ko-KR" sz="2400" spc="-1" strike="noStrike">
                <a:solidFill>
                  <a:srgbClr val="000000"/>
                </a:solidFill>
                <a:latin typeface="휴먼명조"/>
                <a:ea typeface="휴먼명조"/>
              </a:rPr>
              <a:t>그 안에 눈</a:t>
            </a:r>
            <a:r>
              <a:rPr b="0" lang="ko-KR" sz="2400" spc="-1" strike="noStrike">
                <a:solidFill>
                  <a:srgbClr val="000000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휴먼명조"/>
                <a:ea typeface="휴먼명조"/>
              </a:rPr>
              <a:t>코</a:t>
            </a:r>
            <a:r>
              <a:rPr b="0" lang="ko-KR" sz="2400" spc="-1" strike="noStrike">
                <a:solidFill>
                  <a:srgbClr val="000000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휴먼명조"/>
                <a:ea typeface="휴먼명조"/>
              </a:rPr>
              <a:t>입을 그려 넣으려고 함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명조"/>
                <a:ea typeface="휴먼명조"/>
              </a:rPr>
              <a:t>   </a:t>
            </a:r>
            <a:r>
              <a:rPr b="0" lang="ko-KR" sz="2400" spc="-1" strike="noStrike">
                <a:solidFill>
                  <a:srgbClr val="000000"/>
                </a:solidFill>
                <a:latin typeface="휴먼명조"/>
                <a:ea typeface="휴먼명조"/>
              </a:rPr>
              <a:t>이런 식으로는 절대 좋은 그림이 나올 수 없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CI Poppy"/>
                <a:ea typeface="휴먼명조"/>
              </a:rPr>
              <a:t>화가 </a:t>
            </a:r>
            <a:r>
              <a:rPr b="0" lang="ko-KR" sz="2400" spc="-1" strike="noStrike">
                <a:solidFill>
                  <a:srgbClr val="000000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명조"/>
                <a:ea typeface="휴먼명조"/>
              </a:rPr>
              <a:t>구도</a:t>
            </a:r>
            <a:r>
              <a:rPr b="0" lang="ko-KR" sz="2400" spc="-1" strike="noStrike">
                <a:solidFill>
                  <a:srgbClr val="000000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휴먼명조"/>
                <a:ea typeface="휴먼명조"/>
              </a:rPr>
              <a:t>명암</a:t>
            </a:r>
            <a:r>
              <a:rPr b="0" lang="ko-KR" sz="2400" spc="-1" strike="noStrike">
                <a:solidFill>
                  <a:srgbClr val="000000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휴먼명조"/>
                <a:ea typeface="휴먼명조"/>
              </a:rPr>
              <a:t>면</a:t>
            </a:r>
            <a:r>
              <a:rPr b="0" lang="ko-KR" sz="2400" spc="-1" strike="noStrike">
                <a:solidFill>
                  <a:srgbClr val="000000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휴먼명조"/>
                <a:ea typeface="휴먼명조"/>
              </a:rPr>
              <a:t>비율 등의 개념체계 이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명조"/>
                <a:ea typeface="휴먼명조"/>
              </a:rPr>
              <a:t>목적에 맞는 적절한 개념체계 필요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명조"/>
                <a:ea typeface="휴먼명조"/>
              </a:rPr>
              <a:t>   </a:t>
            </a:r>
            <a:r>
              <a:rPr b="0" lang="ko-KR" sz="2400" spc="-1" strike="noStrike">
                <a:solidFill>
                  <a:srgbClr val="000000"/>
                </a:solidFill>
                <a:latin typeface="휴먼명조"/>
                <a:ea typeface="휴먼명조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명조"/>
                <a:ea typeface="휴먼명조"/>
              </a:rPr>
              <a:t>관상쟁이</a:t>
            </a:r>
            <a:r>
              <a:rPr b="0" lang="ko-KR" sz="2400" spc="-1" strike="noStrike">
                <a:solidFill>
                  <a:srgbClr val="000000"/>
                </a:solidFill>
                <a:latin typeface="휴먼명조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휴먼명조"/>
                <a:ea typeface="휴먼명조"/>
              </a:rPr>
              <a:t>의사</a:t>
            </a:r>
            <a:r>
              <a:rPr b="0" lang="ko-KR" sz="2400" spc="-1" strike="noStrike">
                <a:solidFill>
                  <a:srgbClr val="000000"/>
                </a:solidFill>
                <a:latin typeface="휴먼명조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휴먼명조"/>
                <a:ea typeface="휴먼명조"/>
              </a:rPr>
              <a:t>생물학자</a:t>
            </a:r>
            <a:r>
              <a:rPr b="0" lang="ko-KR" sz="2400" spc="-1" strike="noStrike">
                <a:solidFill>
                  <a:srgbClr val="000000"/>
                </a:solidFill>
                <a:latin typeface="휴먼명조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휴먼명조"/>
                <a:ea typeface="휴먼명조"/>
              </a:rPr>
              <a:t>물리학자</a:t>
            </a:r>
            <a:r>
              <a:rPr b="0" lang="ko-KR" sz="2400" spc="-1" strike="noStrike">
                <a:solidFill>
                  <a:srgbClr val="000000"/>
                </a:solidFill>
                <a:latin typeface="휴먼명조"/>
                <a:ea typeface="휴먼명조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명조"/>
                <a:ea typeface="휴먼명조"/>
              </a:rPr>
              <a:t>개념체계 없이는 의미있는 관찰 불가능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굴림"/>
              </a:rPr>
              <a:t>관찰과 인식 </a:t>
            </a:r>
            <a:r>
              <a:rPr b="1" lang="en-US" sz="2000" spc="-1" strike="noStrike">
                <a:solidFill>
                  <a:srgbClr val="333399"/>
                </a:solidFill>
                <a:latin typeface="굴림"/>
              </a:rPr>
              <a:t>#2</a:t>
            </a:r>
            <a:br>
              <a:rPr sz="2000"/>
            </a:br>
            <a:r>
              <a:rPr b="1" lang="zh-CN" sz="4400" spc="-1" strike="noStrike">
                <a:solidFill>
                  <a:srgbClr val="333399"/>
                </a:solidFill>
                <a:latin typeface="굴림"/>
              </a:rPr>
              <a:t>인식</a:t>
            </a:r>
            <a:endParaRPr b="0" lang="en-US" sz="4400" spc="-1" strike="noStrike">
              <a:solidFill>
                <a:srgbClr val="333399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명조"/>
                <a:ea typeface="휴먼명조"/>
              </a:rPr>
              <a:t>보편적 현상의 특수한 경우로 인식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명조"/>
                <a:ea typeface="휴먼명조"/>
              </a:rPr>
              <a:t>추상적 개념을 통해 재구성해 대상을 인식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명조"/>
                <a:ea typeface="휴먼명조"/>
              </a:rPr>
              <a:t>개별 </a:t>
            </a:r>
            <a:r>
              <a:rPr b="0" lang="ko-KR" sz="2400" spc="-1" strike="noStrike">
                <a:solidFill>
                  <a:srgbClr val="000000"/>
                </a:solidFill>
                <a:latin typeface="휴먼명조"/>
                <a:ea typeface="휴먼명조"/>
              </a:rPr>
              <a:t>-&gt; </a:t>
            </a:r>
            <a:r>
              <a:rPr b="0" lang="ko-KR" sz="2400" spc="-1" strike="noStrike">
                <a:solidFill>
                  <a:srgbClr val="000000"/>
                </a:solidFill>
                <a:latin typeface="휴먼명조"/>
                <a:ea typeface="휴먼명조"/>
              </a:rPr>
              <a:t>보편 </a:t>
            </a:r>
            <a:r>
              <a:rPr b="0" lang="ko-KR" sz="2400" spc="-1" strike="noStrike">
                <a:solidFill>
                  <a:srgbClr val="000000"/>
                </a:solidFill>
                <a:latin typeface="휴먼명조"/>
                <a:ea typeface="휴먼명조"/>
              </a:rPr>
              <a:t>-&gt; </a:t>
            </a:r>
            <a:r>
              <a:rPr b="0" lang="ko-KR" sz="2400" spc="-1" strike="noStrike">
                <a:solidFill>
                  <a:srgbClr val="000000"/>
                </a:solidFill>
                <a:latin typeface="휴먼명조"/>
                <a:ea typeface="휴먼명조"/>
              </a:rPr>
              <a:t>특수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명조"/>
                <a:ea typeface="휴먼명조"/>
              </a:rPr>
              <a:t>구체 </a:t>
            </a:r>
            <a:r>
              <a:rPr b="0" lang="ko-KR" sz="2400" spc="-1" strike="noStrike">
                <a:solidFill>
                  <a:srgbClr val="000000"/>
                </a:solidFill>
                <a:latin typeface="휴먼명조"/>
                <a:ea typeface="휴먼명조"/>
              </a:rPr>
              <a:t>-&gt; </a:t>
            </a:r>
            <a:r>
              <a:rPr b="0" lang="ko-KR" sz="2400" spc="-1" strike="noStrike">
                <a:solidFill>
                  <a:srgbClr val="000000"/>
                </a:solidFill>
                <a:latin typeface="휴먼명조"/>
                <a:ea typeface="휴먼명조"/>
              </a:rPr>
              <a:t>추상 </a:t>
            </a:r>
            <a:r>
              <a:rPr b="0" lang="ko-KR" sz="2400" spc="-1" strike="noStrike">
                <a:solidFill>
                  <a:srgbClr val="000000"/>
                </a:solidFill>
                <a:latin typeface="휴먼명조"/>
                <a:ea typeface="휴먼명조"/>
              </a:rPr>
              <a:t>-&gt; </a:t>
            </a:r>
            <a:r>
              <a:rPr b="0" lang="ko-KR" sz="2400" spc="-1" strike="noStrike">
                <a:solidFill>
                  <a:srgbClr val="000000"/>
                </a:solidFill>
                <a:latin typeface="휴먼명조"/>
                <a:ea typeface="휴먼명조"/>
              </a:rPr>
              <a:t>추상적 개념을 통해 재구성한 구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명조"/>
                <a:ea typeface="휴먼명조"/>
              </a:rPr>
              <a:t>인식과정 </a:t>
            </a:r>
            <a:r>
              <a:rPr b="0" lang="ko-KR" sz="2400" spc="-1" strike="noStrike">
                <a:solidFill>
                  <a:srgbClr val="000000"/>
                </a:solidFill>
                <a:latin typeface="휴먼명조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명조"/>
                <a:ea typeface="휴먼명조"/>
              </a:rPr>
              <a:t>개념체계 선택 </a:t>
            </a:r>
            <a:r>
              <a:rPr b="0" lang="ko-KR" sz="2400" spc="-1" strike="noStrike">
                <a:solidFill>
                  <a:srgbClr val="000000"/>
                </a:solidFill>
                <a:latin typeface="휴먼명조"/>
                <a:ea typeface="휴먼명조"/>
              </a:rPr>
              <a:t>&amp; </a:t>
            </a:r>
            <a:r>
              <a:rPr b="0" lang="ko-KR" sz="2400" spc="-1" strike="noStrike">
                <a:solidFill>
                  <a:srgbClr val="000000"/>
                </a:solidFill>
                <a:latin typeface="휴먼명조"/>
                <a:ea typeface="휴먼명조"/>
              </a:rPr>
              <a:t>모형화 </a:t>
            </a:r>
            <a:r>
              <a:rPr b="0" lang="ko-KR" sz="2400" spc="-1" strike="noStrike">
                <a:solidFill>
                  <a:srgbClr val="000000"/>
                </a:solidFill>
                <a:latin typeface="휴먼명조"/>
                <a:ea typeface="휴먼명조"/>
              </a:rPr>
              <a:t>&amp; </a:t>
            </a:r>
            <a:r>
              <a:rPr b="0" lang="ko-KR" sz="2400" spc="-1" strike="noStrike">
                <a:solidFill>
                  <a:srgbClr val="000000"/>
                </a:solidFill>
                <a:latin typeface="휴먼명조"/>
                <a:ea typeface="휴먼명조"/>
              </a:rPr>
              <a:t>추론</a:t>
            </a:r>
            <a:r>
              <a:rPr b="0" lang="ko-KR" sz="2400" spc="-1" strike="noStrike">
                <a:solidFill>
                  <a:srgbClr val="000000"/>
                </a:solidFill>
                <a:latin typeface="휴먼명조"/>
                <a:ea typeface="휴먼명조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명조"/>
                <a:ea typeface="휴먼명조"/>
              </a:rPr>
              <a:t>재구성</a:t>
            </a:r>
            <a:r>
              <a:rPr b="0" lang="ko-KR" sz="2400" spc="-1" strike="noStrike">
                <a:solidFill>
                  <a:srgbClr val="000000"/>
                </a:solidFill>
                <a:latin typeface="휴먼명조"/>
                <a:ea typeface="휴먼명조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명조"/>
                <a:ea typeface="휴먼명조"/>
              </a:rPr>
              <a:t>예</a:t>
            </a:r>
            <a:r>
              <a:rPr b="0" lang="ko-KR" sz="2400" spc="-1" strike="noStrike">
                <a:solidFill>
                  <a:srgbClr val="000000"/>
                </a:solidFill>
                <a:latin typeface="휴먼명조"/>
                <a:ea typeface="휴먼명조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휴먼명조"/>
                <a:ea typeface="휴먼명조"/>
              </a:rPr>
              <a:t>계절의 변화 </a:t>
            </a:r>
            <a:r>
              <a:rPr b="0" lang="ko-KR" sz="2400" spc="-1" strike="noStrike">
                <a:solidFill>
                  <a:srgbClr val="000000"/>
                </a:solidFill>
                <a:latin typeface="휴먼명조"/>
                <a:ea typeface="휴먼명조"/>
              </a:rPr>
              <a:t>: (</a:t>
            </a:r>
            <a:r>
              <a:rPr b="0" lang="ko-KR" sz="2400" spc="-1" strike="noStrike">
                <a:solidFill>
                  <a:srgbClr val="000000"/>
                </a:solidFill>
                <a:latin typeface="휴먼명조"/>
                <a:ea typeface="휴먼명조"/>
              </a:rPr>
              <a:t>요정론</a:t>
            </a:r>
            <a:r>
              <a:rPr b="0" lang="ko-KR" sz="2400" spc="-1" strike="noStrike">
                <a:solidFill>
                  <a:srgbClr val="000000"/>
                </a:solidFill>
                <a:latin typeface="휴먼명조"/>
                <a:ea typeface="휴먼명조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휴먼명조"/>
                <a:ea typeface="휴먼명조"/>
              </a:rPr>
              <a:t>계절의 요정 슈가가 계절을 바꿔줌</a:t>
            </a:r>
            <a:r>
              <a:rPr b="0" lang="ko-KR" sz="2400" spc="-1" strike="noStrike">
                <a:solidFill>
                  <a:srgbClr val="000000"/>
                </a:solidFill>
                <a:latin typeface="휴먼명조"/>
                <a:ea typeface="휴먼명조"/>
              </a:rPr>
              <a:t>. (</a:t>
            </a:r>
            <a:r>
              <a:rPr b="0" lang="ko-KR" sz="2400" spc="-1" strike="noStrike">
                <a:solidFill>
                  <a:srgbClr val="000000"/>
                </a:solidFill>
                <a:latin typeface="휴먼명조"/>
                <a:ea typeface="휴먼명조"/>
              </a:rPr>
              <a:t>프톨레마이오스</a:t>
            </a:r>
            <a:r>
              <a:rPr b="0" lang="ko-KR" sz="2400" spc="-1" strike="noStrike">
                <a:solidFill>
                  <a:srgbClr val="000000"/>
                </a:solidFill>
                <a:latin typeface="휴먼명조"/>
                <a:ea typeface="휴먼명조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휴먼명조"/>
                <a:ea typeface="휴먼명조"/>
              </a:rPr>
              <a:t>태양의 공전</a:t>
            </a:r>
            <a:r>
              <a:rPr b="0" lang="ko-KR" sz="2400" spc="-1" strike="noStrike">
                <a:solidFill>
                  <a:srgbClr val="000000"/>
                </a:solidFill>
                <a:latin typeface="휴먼명조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휴먼명조"/>
                <a:ea typeface="휴먼명조"/>
              </a:rPr>
              <a:t>비스듬한 황도의 궤도</a:t>
            </a:r>
            <a:r>
              <a:rPr b="0" lang="ko-KR" sz="2400" spc="-1" strike="noStrike">
                <a:solidFill>
                  <a:srgbClr val="000000"/>
                </a:solidFill>
                <a:latin typeface="휴먼명조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휴먼명조"/>
                <a:ea typeface="휴먼명조"/>
              </a:rPr>
              <a:t>태양의 고도차이로 계절 이해  </a:t>
            </a:r>
            <a:r>
              <a:rPr b="0" lang="ko-KR" sz="2400" spc="-1" strike="noStrike">
                <a:solidFill>
                  <a:srgbClr val="000000"/>
                </a:solidFill>
                <a:latin typeface="휴먼명조"/>
                <a:ea typeface="휴먼명조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명조"/>
                <a:ea typeface="휴먼명조"/>
              </a:rPr>
              <a:t>코페르니쿠스</a:t>
            </a:r>
            <a:r>
              <a:rPr b="0" lang="ko-KR" sz="2400" spc="-1" strike="noStrike">
                <a:solidFill>
                  <a:srgbClr val="000000"/>
                </a:solidFill>
                <a:latin typeface="휴먼명조"/>
                <a:ea typeface="휴먼명조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휴먼명조"/>
                <a:ea typeface="휴먼명조"/>
              </a:rPr>
              <a:t>지구의 공전</a:t>
            </a:r>
            <a:r>
              <a:rPr b="0" lang="ko-KR" sz="2400" spc="-1" strike="noStrike">
                <a:solidFill>
                  <a:srgbClr val="000000"/>
                </a:solidFill>
                <a:latin typeface="휴먼명조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휴먼명조"/>
                <a:ea typeface="휴먼명조"/>
              </a:rPr>
              <a:t>공전궤도면에 비스듬한 자전축</a:t>
            </a:r>
            <a:r>
              <a:rPr b="0" lang="ko-KR" sz="2400" spc="-1" strike="noStrike">
                <a:solidFill>
                  <a:srgbClr val="000000"/>
                </a:solidFill>
                <a:latin typeface="휴먼명조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휴먼명조"/>
                <a:ea typeface="휴먼명조"/>
              </a:rPr>
              <a:t>태양의 고도차이로 계절 이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4T15:03:19Z</dcterms:created>
  <dc:creator>osaka</dc:creator>
  <dc:description/>
  <dc:language>en-US</dc:language>
  <cp:lastModifiedBy>osaka</cp:lastModifiedBy>
  <dcterms:modified xsi:type="dcterms:W3CDTF">2004-12-14T18:44:04Z</dcterms:modified>
  <cp:revision>4</cp:revision>
  <dc:subject/>
  <dc:title>지식에 대한 짧은 고찰</dc:title>
</cp:coreProperties>
</file>